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7FC-3D21-437D-B044-42E78233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B66-FA9F-45BE-B12C-7714ED6F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438-03EC-48AD-BBBC-1C0269E3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B4C-76F7-4B33-8EC4-72BE2C4A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2934-0E70-4998-858F-3029A842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E977-8342-4066-9E0A-84429A44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A923-6824-4B19-9C83-C47D7BDD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306E-59CA-42DE-8A46-D4C7BC6C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7F22-CE1D-47AF-9F0F-00055FFF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31EA-C098-4C3F-BEBF-55E2A753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2667-F683-48F9-AF6D-9C807A5F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FFF-8683-41C6-8ABE-CB0948C4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8C41-4247-48DD-820C-3E428985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4CCB-ECCF-40D5-86E6-670EC686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76BB-4A39-4ECB-9F54-FD9D240C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69BA-28B8-48BD-B08C-463E26D4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30C7-5D28-4188-BF16-92B9B8D6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33B-DAA6-4831-9FE3-3D6E3CF7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34B-B51D-446A-81E8-67E0CC06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45A-9F52-457D-A99A-D0F431BA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B46-0629-400D-A90F-FAA24D15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229-862E-4752-B535-5C4E46D3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CD5-6A65-4305-B1BB-A699972A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B1E-FFAD-48F4-832B-8BE9179F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3E19-AE0C-4839-B0F8-08C6AB448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5A3C-BD16-48DA-AA10-8E9D725EB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Heart of Darkness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by: Joseph Conrad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029"/>
                </a:solidFill>
                <a:latin typeface="Bauhaus 93"/>
              </a:rPr>
              <a:t>Humans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Bauhaus 93"/>
              </a:rPr>
              <a:t>Good</a:t>
            </a:r>
            <a:r>
              <a:rPr b="0" lang="en-US" sz="6000" spc="-1" strike="noStrike">
                <a:solidFill>
                  <a:srgbClr val="cccc00"/>
                </a:solidFill>
                <a:latin typeface="Bauhaus 93"/>
              </a:rPr>
              <a:t> </a:t>
            </a:r>
            <a:r>
              <a:rPr b="0" lang="en-US" sz="6000" spc="-1" strike="noStrike">
                <a:solidFill>
                  <a:srgbClr val="fda634"/>
                </a:solidFill>
                <a:latin typeface="Bauhaus 93"/>
              </a:rPr>
              <a:t>or</a:t>
            </a:r>
            <a:r>
              <a:rPr b="0" lang="en-US" sz="6000" spc="-1" strike="noStrike">
                <a:solidFill>
                  <a:srgbClr val="cccc00"/>
                </a:solidFill>
                <a:latin typeface="Bauhaus 93"/>
              </a:rPr>
              <a:t> </a:t>
            </a:r>
            <a:r>
              <a:rPr b="0" lang="en-US" sz="6000" spc="-1" strike="noStrike">
                <a:solidFill>
                  <a:srgbClr val="4a206a"/>
                </a:solidFill>
                <a:latin typeface="Bauhaus 93"/>
              </a:rPr>
              <a:t>Evi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240" y="612720"/>
            <a:ext cx="8915400" cy="6245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" descr="http://www.dreamforger.com/images/images/jessecombs/tattoo/Heart-of-Darkness-Tatto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Book Information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genr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· Symbolism, colonial literature, adventure tale, frame story, almost a romance in its insistence on heroism and the supernatural and its preference for the symbolic over the real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time and place writte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· England, 1898–1899; inspired by Conrad's journey to the Congo in 189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Background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 writing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Heart of Darknes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Conrad drew inspiration from his own experience in the Congo: eight and a half years before writing the book, he had gone to serve as the captain of a Congo steamer. Some of Conrad's experiences in the Congo, and the story's historic background, including possible models for Kurtz, are recounted in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King Leopold’s Ghost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y Hochschi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Times New Roman"/>
              </a:rPr>
              <a:t>Imperialism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Times New Roman"/>
              </a:rPr>
              <a:t>the policy of extending the rule or authority of an empire or nation over foreign countries, or of acquiring and holding colonies and dependencie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Times New Roman"/>
              </a:rPr>
              <a:t>Realist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61616"/>
                </a:solidFill>
                <a:latin typeface="Times New Roman"/>
              </a:rPr>
              <a:t>a person who tends to view or represent things as they really are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haracter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r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Mana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ef Accoun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rtz’s African Mi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rtz’s Int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low’s A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Motif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00"/>
                </a:solidFill>
                <a:latin typeface="Tempus Sans ITC"/>
              </a:rPr>
              <a:t>Darkness vs Ligh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00"/>
                </a:solidFill>
                <a:latin typeface="Tempus Sans ITC"/>
              </a:rPr>
              <a:t>Interior vs Exterio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00"/>
                </a:solidFill>
                <a:latin typeface="Tempus Sans ITC"/>
              </a:rPr>
              <a:t>Up river vs Down rive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00"/>
                </a:solidFill>
                <a:latin typeface="Tempus Sans ITC"/>
              </a:rPr>
              <a:t>Civilized vs Unciviliz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Symbol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Times New Roman"/>
              </a:rPr>
              <a:t>Ri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Times New Roman"/>
              </a:rPr>
              <a:t>W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ds on fence pos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Times New Roman"/>
              </a:rPr>
              <a:t>Knitting women in the off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cket with a hole in 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Reading for…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ymbolic read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ythical 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sychologic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itic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li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5:29:29Z</dcterms:created>
  <dc:creator>BISD</dc:creator>
  <dc:description/>
  <dc:language>en-US</dc:language>
  <cp:lastModifiedBy>Skip Nicholson</cp:lastModifiedBy>
  <dcterms:modified xsi:type="dcterms:W3CDTF">2011-05-05T19:10:09Z</dcterms:modified>
  <cp:revision>9</cp:revision>
  <dc:subject/>
  <dc:title>Heart of Darkness by: Joseph Conrad</dc:title>
</cp:coreProperties>
</file>